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8FE-0999-4363-B085-B68918B1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F5E-1AEA-4F58-ACCF-CBC3384D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A10-57DF-45E2-A911-A5C6011D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4A0-14BC-442B-9956-C987A6F4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43D-3CB7-4700-9D98-4B621F09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E64-C905-4585-98B1-44E2614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8AD-26C8-4243-A3F4-5435ED37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70A-6911-4BE4-8A2C-22CA1B9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47D8-2EB8-4A0F-992A-810BB70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C33-1964-43DE-A3B5-C82B7258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A64-D8A7-42EA-BBDD-2FFF32D5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61F-00E7-4DB4-8FF3-8DC2C89D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6E91-01F3-4B43-94AD-367B8A4D8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13:37:04Z</dcterms:created>
  <dc:creator>onodera</dc:creator>
  <dc:description/>
  <dc:language>en-US</dc:language>
  <cp:lastModifiedBy>onodera</cp:lastModifiedBy>
  <dcterms:modified xsi:type="dcterms:W3CDTF">2007-06-03T08:07:28Z</dcterms:modified>
  <cp:revision>76</cp:revision>
  <dc:subject/>
  <dc:title>スライド 1</dc:title>
</cp:coreProperties>
</file>