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3A2E-4A31-4903-A264-E5CD3D3DB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78B9-2308-4388-B17A-347639585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62D1-43F3-46F3-AB7C-776DC220F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F251-2CEB-4C34-8C0C-7A6821518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514D-DE38-46D0-BF7D-0B2F15980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D3C3-07A0-4CEE-AD67-E18CF5111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1DE6-3A20-42F4-8337-04F91A46B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2E86-0F5F-46FC-9ACF-3FF07CA17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E9DB-4E38-48AA-9ED7-003792741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8759-D335-4F10-8157-42818583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4646-A8C9-4E56-B686-6F6C6329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80F5-D3A5-4643-97D4-C8BE6EDF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2F0DF-E115-4546-B7CA-3EE2AC75F7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0T13:37:04Z</dcterms:created>
  <dc:creator>onodera</dc:creator>
  <dc:description/>
  <dc:language>en-US</dc:language>
  <cp:lastModifiedBy>onodera</cp:lastModifiedBy>
  <dcterms:modified xsi:type="dcterms:W3CDTF">2007-06-03T08:07:28Z</dcterms:modified>
  <cp:revision>76</cp:revision>
  <dc:subject/>
  <dc:title>スライド 1</dc:title>
</cp:coreProperties>
</file>