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A748-DB23-4829-8517-D8F0E13C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718-7FCA-4822-BA73-02159010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6C7C-B827-4519-9AF5-F5D11321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6495-4F75-4D26-BF90-01AE1BEC9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E274-98A0-4816-AFFA-7E85F59A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2F45-851F-47FC-AC92-2E97BF30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08CC-44FA-44ED-8782-1F22EBAF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204-8E5D-4A64-911C-4ED34A71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5FC7-3AB1-4C7C-8CD6-41E3A060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0680-165F-45B4-9239-84212BB2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0174-9DF7-4416-9577-EC87E15D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794E-E348-4801-9BF2-19CEEEE5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59C8-7606-4B3B-BE9C-C5D35FF65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13:37:04Z</dcterms:created>
  <dc:creator>onodera</dc:creator>
  <dc:description/>
  <dc:language>en-US</dc:language>
  <cp:lastModifiedBy>onodera</cp:lastModifiedBy>
  <dcterms:modified xsi:type="dcterms:W3CDTF">2007-06-03T08:07:28Z</dcterms:modified>
  <cp:revision>76</cp:revision>
  <dc:subject/>
  <dc:title>スライド 1</dc:title>
</cp:coreProperties>
</file>