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43CBE-A01E-4347-B845-1E148C418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F492-5E5D-4179-AA12-830D56C8A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0275-D128-41FD-B41D-7C81619A6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F9F6-4809-4850-B092-0BDA18406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1FCA-94B3-4881-9D97-9EFEB8D8C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BAFA-1800-4FE0-93B1-37C6D6B6A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FD69-FB22-4C07-91F8-229B882DE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A6C0-1259-4BE8-A2D7-62B944EBA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FF1E-DBAD-420E-A137-1BFD32173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A07E-CC4E-40CD-B9E4-19D8654D6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A577-32ED-45DE-B041-EB887418A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3081-F7B0-495B-AD58-AE69A55B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D286-3F91-4CC2-80E9-EB74494A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B2ED-2308-4690-BD00-2545165E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25838-D694-47C2-8E4C-36FE25B1F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0T13:37:04Z</dcterms:created>
  <dc:creator>onodera</dc:creator>
  <dc:description/>
  <dc:language>en-US</dc:language>
  <cp:lastModifiedBy>Onodera</cp:lastModifiedBy>
  <dcterms:modified xsi:type="dcterms:W3CDTF">2011-03-25T09:40:25Z</dcterms:modified>
  <cp:revision>95</cp:revision>
  <dc:subject/>
  <dc:title>スライド 1</dc:title>
</cp:coreProperties>
</file>