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81C3-55D0-4B46-A661-FA0F1296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6062-338D-482B-B582-3AC977EE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621-9642-42B7-BF10-6024B18D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A0E-404C-4F59-A35F-DB47850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DA3-E05C-4D1F-B645-1183EA5B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631-235B-4AC6-85A9-4D25E0B9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9F9-1187-41C0-A85A-ACF3A5F3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1A3-33AF-409D-85C2-62E47AB2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518-A7BB-4224-B2DB-7FE1D77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77F-4A9E-4F7C-A059-620D8A9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3F9-49A2-4899-9286-B10B92A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19A-9150-464E-B039-38AE45FC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C21-6DDC-4076-B359-ACD8152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F6A-7E37-42A2-A6B8-1E2771B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A25F-277A-44C3-B846-56E59427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11-03-25T12:39:26Z</dcterms:modified>
  <cp:revision>96</cp:revision>
  <dc:subject/>
  <dc:title>スライド 1</dc:title>
</cp:coreProperties>
</file>