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A5CF-724A-4336-AC5C-8DAFCC9D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1806-1C8A-4B2A-9FEA-D0C5ED16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16E-FC41-4E7A-9FE6-D7E8C9A2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539-DE60-4EE4-8D3C-301C385F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242-3F16-4C4B-BC02-C15D322A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791-1867-4707-9747-2E4654DA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B25-20C4-4C81-81EA-7D229659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043-4420-4171-85A4-0A9E6166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A07-E08B-4D25-9986-F4AA03EE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724-DE65-404F-AB84-BA488E64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F46-2BC1-4942-AE41-C41708E9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CD8-104C-4BCF-965E-F98C75A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D08-8D95-492D-93DB-6853B403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7A5-8F3E-4E1B-BF10-57985C3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69CE-1870-492C-AC1F-DA8B5568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11-03-25T09:50:20Z</dcterms:modified>
  <cp:revision>95</cp:revision>
  <dc:subject/>
  <dc:title>スライド 1</dc:title>
</cp:coreProperties>
</file>