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29CA-28EB-4449-A1E6-B3208238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725A-14CF-4FA3-A324-4EE78E5B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404-A6CB-4CF2-8AC8-5510EFDC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465-AAC1-4666-B197-C49851DF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7251-C6B1-4E2D-BF9C-ACED034C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420-D100-47E1-8C9F-A4E4EE9A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DB96-8BB6-441F-9AE0-2430DA62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E9F-BA29-417C-BA27-0C0102B5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CB1-08AE-49D4-A23C-EF47B5D6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A9F-3EF5-4206-8FD1-CE7BAD14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386A-58B2-427F-BE56-F7C4655B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BFF-4C14-41EF-8352-21E77A87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726B-0702-4477-AC55-39507A32F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07-06-03T08:07:28Z</dcterms:modified>
  <cp:revision>76</cp:revision>
  <dc:subject/>
  <dc:title>スライド 1</dc:title>
</cp:coreProperties>
</file>