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512B-1DEA-4F42-8B35-F3718E6E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A588-18FE-46D3-893F-23514E8C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7D79-B1BA-4EDA-AFEA-878F138A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F22C-661F-4974-8B0B-69C00E36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817C-2171-4DDA-AD5F-ACD055DD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0DE-485C-4689-97BF-1F22B79C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DF62-F33B-4ED1-8A78-7A2158CC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1D56-259C-4022-BCA8-2E1274AD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2095-A7D6-4BB6-B321-0F1CB6A2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5076-BF63-489A-B8D7-56524A85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0FC4-C240-423D-AA1E-A1ED9751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B534-05BC-4C52-AAB4-E14E266F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0BCA-7C51-4B6B-976B-A11CE33A9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13:37:04Z</dcterms:created>
  <dc:creator>onodera</dc:creator>
  <dc:description/>
  <dc:language>en-US</dc:language>
  <cp:lastModifiedBy>onodera</cp:lastModifiedBy>
  <dcterms:modified xsi:type="dcterms:W3CDTF">2007-06-03T08:07:28Z</dcterms:modified>
  <cp:revision>76</cp:revision>
  <dc:subject/>
  <dc:title>スライド 1</dc:title>
</cp:coreProperties>
</file>